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43E-7F54-4467-BE62-F6086321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DCB-6A7B-4346-BD7B-55CD9E37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D7DB-2553-4FEE-891D-4B2491DB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F371-9AA8-4B80-8B1A-172156EF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45C-C9B6-48DA-BFD1-337F07EC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0DAB-7027-4A79-9C97-E53847F7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84FB-9302-435A-83F6-E128C37C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F9C7-3572-40AF-81B3-505548EB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B025-C251-4E48-BAFD-AC7A61EB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66A-7459-4213-876E-CBE7F206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9A8-ECAE-4BE1-ADBA-9ADE44B9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D14-FB8F-4A4B-B21C-0EBFFC10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74FC-ED96-4A21-AA4C-3E002EAF7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M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86, DNA was first used to exonerate a man accused of murder. That year was also the first year DNA was used to convi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began the biggest revolution i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ORENSIC SCI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he scientific analysis of evidence for legal investig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Guanine_chemical_structure.png"/>
          <p:cNvPicPr/>
          <p:nvPr/>
        </p:nvPicPr>
        <p:blipFill>
          <a:blip r:embed="rId1"/>
          <a:stretch/>
        </p:blipFill>
        <p:spPr>
          <a:xfrm>
            <a:off x="1944720" y="1685880"/>
            <a:ext cx="525456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Adenine_chemical_structure.png"/>
          <p:cNvPicPr/>
          <p:nvPr/>
        </p:nvPicPr>
        <p:blipFill>
          <a:blip r:embed="rId1"/>
          <a:stretch/>
        </p:blipFill>
        <p:spPr>
          <a:xfrm>
            <a:off x="2800440" y="1685880"/>
            <a:ext cx="35431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all carbon rings with varying single and double bonds. The “C” is usually omitted when writing organic comp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bonds ar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valent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is means that the electrons are being shared between each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hree double bonds found in cyst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double bond contains four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en single bonds found in cyst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ingle bond contains two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dna_bases.gif"/>
          <p:cNvPicPr/>
          <p:nvPr/>
        </p:nvPicPr>
        <p:blipFill>
          <a:blip r:embed="rId1"/>
          <a:stretch/>
        </p:blipFill>
        <p:spPr>
          <a:xfrm>
            <a:off x="2666880" y="1905120"/>
            <a:ext cx="3810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sphate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3" descr="phosphate.jpg"/>
          <p:cNvPicPr/>
          <p:nvPr/>
        </p:nvPicPr>
        <p:blipFill>
          <a:blip r:embed="rId1"/>
          <a:stretch/>
        </p:blipFill>
        <p:spPr>
          <a:xfrm>
            <a:off x="2590920" y="1828800"/>
            <a:ext cx="42670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oxyribose sug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deoxyribose sugar.jpg"/>
          <p:cNvPicPr/>
          <p:nvPr/>
        </p:nvPicPr>
        <p:blipFill>
          <a:blip r:embed="rId1"/>
          <a:stretch/>
        </p:blipFill>
        <p:spPr>
          <a:xfrm>
            <a:off x="3041640" y="2674800"/>
            <a:ext cx="3060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mer: a single unit containing a phosphate group, and the deoxyribose sug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monomers are then repeated and linked in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olynucleotid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olymers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y are held together with covalent bo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gar-phosphate backb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backbone II.jpg"/>
          <p:cNvPicPr/>
          <p:nvPr/>
        </p:nvPicPr>
        <p:blipFill>
          <a:blip r:embed="rId1"/>
          <a:stretch/>
        </p:blipFill>
        <p:spPr>
          <a:xfrm>
            <a:off x="1219320" y="2209680"/>
            <a:ext cx="489564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ses then hang off these like half rungs of a 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nucleotides are then linked together in the famous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double heli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technology is used in genetically modified food (corn), medicine and agri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stands for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oxyribo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cleic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huge molecules with molecular weights of 6 million – 16 million a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se pairs held together by hydrogen bonding which are weaker than coval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hydrogen bonded dna.gif"/>
          <p:cNvPicPr/>
          <p:nvPr/>
        </p:nvPicPr>
        <p:blipFill>
          <a:blip r:embed="rId1"/>
          <a:stretch/>
        </p:blipFill>
        <p:spPr>
          <a:xfrm>
            <a:off x="3533760" y="2440080"/>
            <a:ext cx="20764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5" descr="double helix.jpg"/>
          <p:cNvPicPr/>
          <p:nvPr/>
        </p:nvPicPr>
        <p:blipFill>
          <a:blip r:embed="rId1"/>
          <a:stretch/>
        </p:blipFill>
        <p:spPr>
          <a:xfrm>
            <a:off x="3048120" y="2209680"/>
            <a:ext cx="3124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3" descr="double helix II.jpg"/>
          <p:cNvPicPr/>
          <p:nvPr/>
        </p:nvPicPr>
        <p:blipFill>
          <a:blip r:embed="rId1"/>
          <a:stretch/>
        </p:blipFill>
        <p:spPr>
          <a:xfrm>
            <a:off x="3276720" y="2286000"/>
            <a:ext cx="2971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double helix III.jpg"/>
          <p:cNvPicPr/>
          <p:nvPr/>
        </p:nvPicPr>
        <p:blipFill>
          <a:blip r:embed="rId1"/>
          <a:stretch/>
        </p:blipFill>
        <p:spPr>
          <a:xfrm>
            <a:off x="2895480" y="2209680"/>
            <a:ext cx="2752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double helix iv.jpg"/>
          <p:cNvPicPr/>
          <p:nvPr/>
        </p:nvPicPr>
        <p:blipFill>
          <a:blip r:embed="rId1"/>
          <a:stretch/>
        </p:blipFill>
        <p:spPr>
          <a:xfrm>
            <a:off x="2835360" y="1600200"/>
            <a:ext cx="347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gene.jpg"/>
          <p:cNvPicPr/>
          <p:nvPr/>
        </p:nvPicPr>
        <p:blipFill>
          <a:blip r:embed="rId1"/>
          <a:stretch/>
        </p:blipFill>
        <p:spPr>
          <a:xfrm>
            <a:off x="2666880" y="2338560"/>
            <a:ext cx="381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is one of the tw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ucleic acid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und in eukaryote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ther is RNA: ribonucleic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are nam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uclei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they are found inside the nucleus of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O NOT GET THIS NUCLEUS CONFUSED WITH THE NUCLEUS OF THE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is a molecule made up of compounds which are made up of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lements making up DNA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elements combine chemically to form comp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parts to a DN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ucleoti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clud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 base pair containing nit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a phosphate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a sugar group (deoxyribose for DNA, ribose for R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gar and phosphate groups are the same in each of the 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fference will be in the nitrogen ba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den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guan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thym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cytos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5" descr="basemolecules.gif"/>
          <p:cNvPicPr/>
          <p:nvPr/>
        </p:nvPicPr>
        <p:blipFill>
          <a:blip r:embed="rId1"/>
          <a:stretch/>
        </p:blipFill>
        <p:spPr>
          <a:xfrm>
            <a:off x="2508120" y="1600200"/>
            <a:ext cx="412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cytosine-chemical-structure.png"/>
          <p:cNvPicPr/>
          <p:nvPr/>
        </p:nvPicPr>
        <p:blipFill>
          <a:blip r:embed="rId1"/>
          <a:stretch/>
        </p:blipFill>
        <p:spPr>
          <a:xfrm>
            <a:off x="3276720" y="2057400"/>
            <a:ext cx="2666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Thymine_chemical_structure.png"/>
          <p:cNvPicPr/>
          <p:nvPr/>
        </p:nvPicPr>
        <p:blipFill>
          <a:blip r:embed="rId1"/>
          <a:stretch/>
        </p:blipFill>
        <p:spPr>
          <a:xfrm>
            <a:off x="2638440" y="1785960"/>
            <a:ext cx="38671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2:34:36Z</dcterms:created>
  <dc:creator>jmngying</dc:creator>
  <dc:description/>
  <dc:language>en-US</dc:language>
  <cp:lastModifiedBy>jmngying</cp:lastModifiedBy>
  <dcterms:modified xsi:type="dcterms:W3CDTF">2011-06-08T14:51:52Z</dcterms:modified>
  <cp:revision>21</cp:revision>
  <dc:subject/>
  <dc:title>STEM PROJECT</dc:title>
</cp:coreProperties>
</file>